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08800" cy="9334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5A27-E47F-4868-9A71-D69A9CAA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6DB-126D-4B59-8D28-9DF7C08C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213-8E15-42E9-89B3-73BE31D4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0EE-5162-4AA5-89D3-092896B1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99F-03F3-4019-A4D9-CD428AD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E14-6A84-4271-9EA0-EC31CFF2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87C5-C21A-4CB6-B64E-3F67E731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ADB7-427C-4537-BB9A-8D573351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639-BFF3-40B2-894C-61DE9E8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AC8-9D41-48F5-BE2E-505218DF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ED8-23F3-43AE-8CAE-01D7E40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672-9828-4E5A-9BE0-E518091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E768-F7CA-418C-9D3F-96DFE4E3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oonbuggy%20Logo" descr=""/>
          <p:cNvPicPr/>
          <p:nvPr/>
        </p:nvPicPr>
        <p:blipFill>
          <a:blip r:embed="rId2"/>
          <a:stretch/>
        </p:blipFill>
        <p:spPr>
          <a:xfrm>
            <a:off x="152280" y="131760"/>
            <a:ext cx="342900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9240" y="480060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Brett Lee</a:t>
            </a: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 Black"/>
              </a:rPr>
              <a:t>Walter R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onbuggy%20Logo" descr=""/>
          <p:cNvPicPr/>
          <p:nvPr/>
        </p:nvPicPr>
        <p:blipFill>
          <a:blip r:embed="rId1"/>
          <a:stretch/>
        </p:blipFill>
        <p:spPr>
          <a:xfrm>
            <a:off x="152280" y="1544760"/>
            <a:ext cx="87346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419360" cy="3732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What is the Moonbuggy Competi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collegiate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wo person human-powered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imed 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mulated Lunar ter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Impact"/>
              </a:rPr>
              <a:t>Last Year’s Ent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8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year entering the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ur mechanical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asn’t for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Untitled-6" descr=""/>
          <p:cNvPicPr/>
          <p:nvPr/>
        </p:nvPicPr>
        <p:blipFill>
          <a:blip r:embed="rId1"/>
          <a:srcRect l="24263" t="36828" r="38135" b="22663"/>
          <a:stretch/>
        </p:blipFill>
        <p:spPr>
          <a:xfrm>
            <a:off x="304920" y="251460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Impact"/>
              </a:rPr>
              <a:t>The Big Red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ifteen undergradu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reshmen, sophomores and jun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stly engin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ntitled-3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96216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Impact"/>
              </a:rPr>
              <a:t>Meet the Sub-T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981080"/>
          <a:ext cx="8686800" cy="411480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  <a:gridCol w="289584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6600"/>
                          </a:solidFill>
                          <a:latin typeface="Arial Black"/>
                        </a:rPr>
                        <a:t>Fra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Something to attach everything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Drivetra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And Brak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How to go and how to s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Steer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How to not run into wa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Suspens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How to keep everyone in the bug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Administr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Organizing the team and ordering the piz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Refurbish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 Black"/>
                        </a:rPr>
                        <a:t>Fixing up last year’s bug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Impact"/>
              </a:rPr>
              <a:t>Getting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urrently in design and brainstorming 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elcome any feedback or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 experience necessar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Untitled-10" descr=""/>
          <p:cNvPicPr/>
          <p:nvPr/>
        </p:nvPicPr>
        <p:blipFill>
          <a:blip r:embed="rId1"/>
          <a:srcRect l="16620" t="6865" r="16620" b="0"/>
          <a:stretch/>
        </p:blipFill>
        <p:spPr>
          <a:xfrm>
            <a:off x="4113360" y="2157480"/>
            <a:ext cx="45734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8T19:51:48Z</dcterms:created>
  <dc:creator>Diane Sherman</dc:creator>
  <dc:description/>
  <dc:language>en-US</dc:language>
  <cp:lastModifiedBy>Brett Lee</cp:lastModifiedBy>
  <dcterms:modified xsi:type="dcterms:W3CDTF">2000-10-20T16:43:49Z</dcterms:modified>
  <cp:revision>3</cp:revision>
  <dc:subject/>
  <dc:title>Cornell  University  Moonbuggy    Team</dc:title>
</cp:coreProperties>
</file>